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C1A-BECC-4152-92BD-CE2E6CFE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A03-480C-4DCA-9AF5-978528A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C47-B4D1-41D9-BA97-7596F71F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A5D-0962-461F-8832-F902D68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289-8450-424D-B3E2-D21A283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998-5E5E-4A70-91D7-E1DF25F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B34-AADC-461F-8934-CFB5B9FB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55B-B99E-4455-9CBD-1EEB6E18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32D-8CCA-4CAE-8E9E-B312B26A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B90-104D-4B6B-86B0-EFC678F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F22-7D5E-47B2-BE37-5153D19A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D3C-A660-4BB5-AC47-EC1F3C0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F91-D52F-40B8-A21A-62B6D4215D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9694"/>
                </a:solidFill>
                <a:latin typeface="Bradley Hand ITC"/>
              </a:rPr>
              <a:t>Exploring The Use</a:t>
            </a:r>
            <a:br>
              <a:rPr sz="4400"/>
            </a:br>
            <a:r>
              <a:rPr b="1" lang="en-US" sz="4400" spc="-1" strike="noStrike">
                <a:solidFill>
                  <a:srgbClr val="d99694"/>
                </a:solidFill>
                <a:latin typeface="Bradley Hand ITC"/>
              </a:rPr>
              <a:t> of Graphic Organizers in the Classroom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radley Hand ITC"/>
              </a:rPr>
              <a:t>Rebecca Russ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Bradley Hand ITC"/>
              </a:rPr>
              <a:t>Wilmington Colle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9694"/>
                </a:solidFill>
                <a:latin typeface="Bradley Hand ITC"/>
                <a:ea typeface="Aharoni"/>
              </a:rPr>
              <a:t>Consistent, Coherent, Creative:</a:t>
            </a:r>
            <a:br>
              <a:rPr sz="4000"/>
            </a:br>
            <a:r>
              <a:rPr b="1" lang="en-US" sz="4000" spc="-1" strike="noStrike">
                <a:solidFill>
                  <a:srgbClr val="d99694"/>
                </a:solidFill>
                <a:latin typeface="Bradley Hand ITC"/>
                <a:ea typeface="Aharoni"/>
              </a:rPr>
              <a:t>The 3 C’s of Graphic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1f497d"/>
          </a:solidFill>
          <a:ln w="9360">
            <a:solidFill>
              <a:srgbClr val="4bacc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4a2"/>
                </a:solidFill>
                <a:latin typeface="Calibri"/>
              </a:rPr>
              <a:t>Baxendell (2003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nsistent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Standard set of graphic organizers, establish a routin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herent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Limit # of ideas covered, minimize distraction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76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reative: </a:t>
            </a:r>
            <a:r>
              <a:rPr b="0" lang="en-US" sz="1900" spc="-1" strike="noStrike">
                <a:solidFill>
                  <a:srgbClr val="00b050"/>
                </a:solidFill>
                <a:latin typeface="Bradley Hand ITC"/>
              </a:rPr>
              <a:t>Use as in class and out of class assignments, add illustrations, work with cooperative groups or pairs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4a2"/>
                </a:solidFill>
                <a:latin typeface="Calibri"/>
              </a:rPr>
              <a:t>Common Graphic Organiz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ause &amp; Effect Diagram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Sequence Ch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Main Idea &amp; Detail Ch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bac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Bradley Hand ITC"/>
              </a:rPr>
              <a:t>Compare/ Contrast Diagra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92d050"/>
                </a:solidFill>
                <a:latin typeface="Bradley Hand ITC"/>
              </a:rPr>
              <a:t>Different Routes to the Same Destination: </a:t>
            </a:r>
            <a:br>
              <a:rPr sz="3600"/>
            </a:br>
            <a:r>
              <a:rPr b="1" lang="en-US" sz="3600" spc="-1" strike="noStrike">
                <a:solidFill>
                  <a:srgbClr val="92d050"/>
                </a:solidFill>
                <a:latin typeface="Bradley Hand ITC"/>
              </a:rPr>
              <a:t>Drawing Conclusions with Tiered Graphic Organiz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Mary C. McMackin &amp; Nancy L. Witherell, (2005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Differentiating Instruction for all studen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Bradley Hand ITC"/>
              </a:rPr>
              <a:t>Developing Successful Graphic Organiz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radley Hand ITC"/>
              </a:rPr>
              <a:t>7 Steps to Follow to do so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Identify the concept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Decide on the outcom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Think about the level of the student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How can you challenge student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Continue to focus on the desired outcom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Match students to the appropriate graphic organizer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357560" indent="-452520">
              <a:lnSpc>
                <a:spcPct val="80000"/>
              </a:lnSpc>
              <a:spcBef>
                <a:spcPts val="425"/>
              </a:spcBef>
              <a:buClr>
                <a:srgbClr val="00b050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Bradley Hand ITC"/>
              </a:rPr>
              <a:t>Assess student’s work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adley Hand ITC"/>
              </a:rPr>
              <a:t>Comic Strips as a Text Structure for Learning To Read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Claudia J. McVicker (2007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Importance of comic strip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“</a:t>
            </a: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Using comics can alleviate the negative view of reading for some children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Help motivate disengaged read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Another way to teach reading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s are easily accessibl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Using Comic Books as Read-Alouds: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Insights on Reading Instruction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Bradley Hand ITC"/>
              </a:rPr>
              <a:t>From an English as a Second Language Classroo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Bradley Hand ITC"/>
              </a:rPr>
              <a:t>Jason Ranker, 200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 books increase reading comprehen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Comic books can spark interest in new subjects or help students reflect on subjects they are already interested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Bradley Hand ITC"/>
              </a:rPr>
              <a:t>Use of comic strips to scaffold stud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9694"/>
                </a:solidFill>
                <a:latin typeface="Bradley Hand ITC"/>
              </a:rPr>
              <a:t>Exploring The Use</a:t>
            </a:r>
            <a:br>
              <a:rPr sz="4000"/>
            </a:br>
            <a:r>
              <a:rPr b="1" lang="en-US" sz="4000" spc="-1" strike="noStrike">
                <a:solidFill>
                  <a:srgbClr val="d99694"/>
                </a:solidFill>
                <a:latin typeface="Bradley Hand ITC"/>
              </a:rPr>
              <a:t> of Graphic Organizers in the Classroo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d050"/>
                </a:solidFill>
                <a:latin typeface="Bradley Hand ITC"/>
              </a:rPr>
              <a:t>Why Use Graphic Organizer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develop in depth thinking process for studen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students learn to think criticall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Help students analyze their though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Bradley Hand IT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Bradley Hand ITC"/>
              </a:rPr>
              <a:t>Benefits of Graphic Organiz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Develop Organizational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Offer Way to Differentiate Instruction for Stu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radley Hand ITC"/>
              </a:rPr>
              <a:t>Offer Variety for students &amp;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radley Hand ITC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Be open minded to using comic strips as a graphic organiz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Differentiate Instruction based on students’ needs by using graphic organiz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Develop a set of graphic organizers that will be used and maintain a routine in the classro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9694"/>
                </a:solidFill>
                <a:latin typeface="Bradley Hand ITC"/>
              </a:rPr>
              <a:t>Assign graphic organizers across the curricul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Bradley Hand ITC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Baxendell, B.W., (2003). Consistent, coherent, creative: The 3 C’s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of graphic organizers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eaching Exceptional Children, 35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3),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46-5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McMackin, M.C., Witherell, N.L., (2005). Different routes to the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same destination: drawing conclusions with tiered graphic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organizers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,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59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3), 242-252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McVicker, C.J., (2007). Comic strips as a text structure for learning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to read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 61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1), 85-88.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Ranker, J., (2007). Using comic books as read-alouds: Insights on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reading instruction from an English as a Second Language 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classroom.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The Reading Teacher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, </a:t>
            </a:r>
            <a:r>
              <a:rPr b="1" i="1" lang="en-US" sz="2200" spc="-1" strike="noStrike">
                <a:solidFill>
                  <a:srgbClr val="d99694"/>
                </a:solidFill>
                <a:latin typeface="Calibri"/>
              </a:rPr>
              <a:t>61</a:t>
            </a:r>
            <a:r>
              <a:rPr b="1" lang="en-US" sz="2200" spc="-1" strike="noStrike">
                <a:solidFill>
                  <a:srgbClr val="d99694"/>
                </a:solidFill>
                <a:latin typeface="Calibri"/>
              </a:rPr>
              <a:t>(4), 296-305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7:12:11Z</dcterms:created>
  <dc:creator>Becky Russell</dc:creator>
  <dc:description/>
  <dc:language>en-US</dc:language>
  <cp:lastModifiedBy>Becky Russell</cp:lastModifiedBy>
  <dcterms:modified xsi:type="dcterms:W3CDTF">2010-10-06T18:09:22Z</dcterms:modified>
  <cp:revision>7</cp:revision>
  <dc:subject/>
  <dc:title>Exploring The Use  of Graphic Organizers in the Classroom</dc:title>
</cp:coreProperties>
</file>